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677-BF89-428F-A2A6-108C8434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82F-5466-49B6-965D-6A6EB008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5E0-ECAD-4DF4-8F67-9FEC8280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563-0C04-4E73-A26F-471ED63F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0F0-BB55-4272-A9CF-C8B7E374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420-64F1-441B-BEB0-6409A6CD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9BC-A5F1-4B2F-A4A4-F9C12740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39C-94F6-4A27-9CFC-F61773A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8A7-A020-47BB-A17F-19DFEB4C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F32-2629-4BCC-9C3B-A795F99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B54-9426-4A3D-BD63-15BA8BC9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08C-222E-4039-82C0-EF571F60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D41D-EFCB-4C5C-9D1C-BD75E6545C6C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7120" y="2714760"/>
            <a:ext cx="84297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2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n’y a qu’une seule proposition de vra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 bonne proposition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" name="Image 5" descr="Image1.jpg"/>
          <p:cNvPicPr/>
          <p:nvPr/>
        </p:nvPicPr>
        <p:blipFill>
          <a:blip r:embed="rId1"/>
          <a:stretch/>
        </p:blipFill>
        <p:spPr>
          <a:xfrm>
            <a:off x="6804000" y="404640"/>
            <a:ext cx="950760" cy="10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3" name="Image 7" descr="Image3.jpg"/>
          <p:cNvPicPr/>
          <p:nvPr/>
        </p:nvPicPr>
        <p:blipFill>
          <a:blip r:embed="rId2"/>
          <a:stretch/>
        </p:blipFill>
        <p:spPr>
          <a:xfrm>
            <a:off x="7885080" y="404640"/>
            <a:ext cx="755640" cy="107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8" descr="carsat_nordpicardie.jpg"/>
          <p:cNvPicPr/>
          <p:nvPr/>
        </p:nvPicPr>
        <p:blipFill>
          <a:blip r:embed="rId3"/>
          <a:stretch/>
        </p:blipFill>
        <p:spPr>
          <a:xfrm>
            <a:off x="4932360" y="404640"/>
            <a:ext cx="1727280" cy="5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Espace réservé du contenu 11" descr="Circulation bureau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Espace réservé du contenu 14" descr="Condamnation électriqu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Espace réservé du contenu 11" descr="Chantier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dans une zone bruy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Espace réservé du contenu 12" descr="EPI.jpg"/>
          <p:cNvPicPr/>
          <p:nvPr/>
        </p:nvPicPr>
        <p:blipFill>
          <a:blip r:embed="rId1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s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Espace réservé du contenu 11" descr="CACP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Espace réservé du contenu 11" descr="3M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Espace réservé du contenu 11" descr="Aide a domicil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Espace réservé du contenu 11" descr="Souflett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Espace réservé du contenu 11" descr="Nacelle élévatric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Espace réservé du contenu 11" descr="Peinture pistolet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uvetage secourisme du trav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’il faut mettre la victime en position latéral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ne respir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 10" descr="PLS.jpg"/>
          <p:cNvPicPr/>
          <p:nvPr/>
        </p:nvPicPr>
        <p:blipFill>
          <a:blip r:embed="rId1"/>
          <a:stretch/>
        </p:blipFill>
        <p:spPr>
          <a:xfrm>
            <a:off x="714240" y="142920"/>
            <a:ext cx="3643560" cy="35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Espace réservé du contenu 11" descr="Soudag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Espace réservé du contenu 11" descr="Conduite téléphon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Espace réservé du contenu 11" descr="Caissiè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l’utilisation d’échafaud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escabeaux ou d’éch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15" descr="Stats btp vide.jpg"/>
          <p:cNvPicPr/>
          <p:nvPr/>
        </p:nvPicPr>
        <p:blipFill>
          <a:blip r:embed="rId1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Espace réservé du contenu 11" descr="VUL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Espace réservé du contenu 11" descr="Champ magnétique.jpg"/>
          <p:cNvPicPr/>
          <p:nvPr/>
        </p:nvPicPr>
        <p:blipFill>
          <a:blip r:embed="rId1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glissades et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Espace réservé du contenu 11" descr="stat resto vide.jpg"/>
          <p:cNvPicPr/>
          <p:nvPr/>
        </p:nvPicPr>
        <p:blipFill>
          <a:blip r:embed="rId1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Espace réservé du contenu 11" descr="Garage 1.jpg"/>
          <p:cNvPicPr/>
          <p:nvPr/>
        </p:nvPicPr>
        <p:blipFill>
          <a:blip r:embed="rId1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 13" descr="fiche.jpg"/>
          <p:cNvPicPr/>
          <p:nvPr/>
        </p:nvPicPr>
        <p:blipFill>
          <a:blip r:embed="rId1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Espace réservé du contenu 11" descr="Chimie 1.jpg"/>
          <p:cNvPicPr/>
          <p:nvPr/>
        </p:nvPicPr>
        <p:blipFill>
          <a:blip r:embed="rId1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4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Espace réservé du contenu 11" descr="accrochetuteur.jpg"/>
          <p:cNvPicPr/>
          <p:nvPr/>
        </p:nvPicPr>
        <p:blipFill>
          <a:blip r:embed="rId1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57200" y="152280"/>
            <a:ext cx="466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e la victime resp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par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10" descr="Respire.jpg"/>
          <p:cNvPicPr/>
          <p:nvPr/>
        </p:nvPicPr>
        <p:blipFill>
          <a:blip r:embed="rId1"/>
          <a:stretch/>
        </p:blipFill>
        <p:spPr>
          <a:xfrm>
            <a:off x="642960" y="142920"/>
            <a:ext cx="364320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Espace réservé du contenu 11" descr="Charge d'un CACP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Espace réservé du contenu 11" descr="Préparation de commande 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mpose le port de chaussures de sécurité  pour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Espace réservé du contenu 11" descr="Chantier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n’est pas protégé contre les chut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Espace réservé du contenu 11" descr="Chantier second oeuvre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</cp:lastModifiedBy>
  <dcterms:modified xsi:type="dcterms:W3CDTF">2011-01-24T15:04:56Z</dcterms:modified>
  <cp:revision>144</cp:revision>
  <dc:subject/>
  <dc:title>Olympiades</dc:title>
</cp:coreProperties>
</file>