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129-B686-439E-AF51-88FCC936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07E6-1134-4119-8819-6A2E7939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99F3-3479-4152-9F47-1B383B55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46D8-FF63-4A8B-9F53-1E3774D0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813D-595C-41CB-9E21-50B69C59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5A0-22DC-4585-9C3E-399C42CB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A22-9B65-4460-91FF-1947A076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6553-BAAC-4CA4-A4F3-7A3B063F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8B9-8C7C-4202-80FA-846BDAEC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531C-6303-42CE-A431-4D60CB89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C106-3DBE-4931-B15C-8D3DD351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83EF-2706-4966-B697-8211D2CC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A76B-6E13-420B-9B6A-516FA0BCF3BB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57120" y="2714760"/>
            <a:ext cx="84297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CONSIGNES :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ur chaque diapositive, il y 2 propositions de réponses.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l n’y a qu’une seule proposition de vraie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Vous devez entourer la bonne proposition sur la grille papier qui vous est fournie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Remerciements à l’INRS pour la quasi totalité des photos illustrant ces diapositive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2" name="Image 5" descr="Image1.jpg"/>
          <p:cNvPicPr/>
          <p:nvPr/>
        </p:nvPicPr>
        <p:blipFill>
          <a:blip r:embed="rId1"/>
          <a:stretch/>
        </p:blipFill>
        <p:spPr>
          <a:xfrm>
            <a:off x="6804000" y="404640"/>
            <a:ext cx="950760" cy="1090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3" name="Image 7" descr="Image3.jpg"/>
          <p:cNvPicPr/>
          <p:nvPr/>
        </p:nvPicPr>
        <p:blipFill>
          <a:blip r:embed="rId2"/>
          <a:stretch/>
        </p:blipFill>
        <p:spPr>
          <a:xfrm>
            <a:off x="7885080" y="404640"/>
            <a:ext cx="755640" cy="107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4" name="Text Box 7"/>
          <p:cNvSpPr/>
          <p:nvPr/>
        </p:nvSpPr>
        <p:spPr>
          <a:xfrm>
            <a:off x="533520" y="380880"/>
            <a:ext cx="466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Olympi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Santé Sécuri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8" descr="carsat_nordpicardie.jpg"/>
          <p:cNvPicPr/>
          <p:nvPr/>
        </p:nvPicPr>
        <p:blipFill>
          <a:blip r:embed="rId3"/>
          <a:stretch/>
        </p:blipFill>
        <p:spPr>
          <a:xfrm>
            <a:off x="4932360" y="404640"/>
            <a:ext cx="1727280" cy="50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tion dans un bur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sence de câbles électriques au s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existe un risque de chute de plain-p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ersonne a l’habitude de la présence de ces câbles et ne risque donc 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Espace réservé du contenu 11" descr="Circulation bureau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8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llation électr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dispositif permet de vérifier la présence de courant dans l’insta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dispositif empêche la mise sous tension accidentelle d’une parti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sta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Espace réservé du contenu 14" descr="Condamnation électriqu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2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sence du maître d’ouvrage et du maître d’œuvre sur l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s personnes ne doivent pas porter de casque de chantier. Elles sont protégé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le filet de sécurité tendu au dessus d’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s personnes doivent porter un casque d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Espace réservé du contenu 11" descr="Chantier 2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quipements de protection individu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 dans une zone bruy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niveau sonore à risque est fixé réglementairement à 8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niveau sonore à risque est fixé réglementairement à 9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Espace réservé du contenu 12" descr="EPI.jpg"/>
          <p:cNvPicPr/>
          <p:nvPr/>
        </p:nvPicPr>
        <p:blipFill>
          <a:blip r:embed="rId1"/>
          <a:srcRect l="0" t="0" r="7391" b="0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e de chargement et déchargement de camions dans une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camion devrait être stationné dans la zone délimitée par le cadre blanc pein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s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Réglementairement, le cadre peint au sol devrait être de couleur ja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Espace réservé du contenu 11" descr="CACP 2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ten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hargement d’une palet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n’encourt pas de risque particulier du fait que les cartons pèsen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ins de 25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pérateur risque un lumb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Espace réservé du contenu 11" descr="3M 1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e à domic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toyage d’une salle de b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est obligatoire d’utiliser de l’eau de javel pour nettoyer une salle de b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aide à domicile travaille dans une position inconfor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Espace réservé du contenu 11" descr="Aide a domicil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e du bo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toyage des vêtements à l’aide d’une soufflette en fin de p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Si l’ouvrier ferme bien les yeux il n’y a pas de risque particu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risque un acc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Espace réservé du contenu 11" descr="Souflett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7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’une nacelle élévatrice lors d’une intervention sur un lumin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a rue devrait être interdite à la circulation pendant ces trava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résence d’un opérateur situé au sol est obligatoire lors de l’utilisation d’u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Espace réservé du contenu 11" descr="Nacelle élévatric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inture par pulvéri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peintre risque une maladie professionnelle de l’épaule si il réalis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gulièrement ce typ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eintre porte tous ses équipements de protection individuelle. Il ne risqu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Espace réservé du contenu 11" descr="Peinture pistolet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1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Espace réservé du contenu 3" descr="Image4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9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e à domic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travail ne présente pas de risque particu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travail génère du str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d’intervention S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uvetage secourisme du trav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pictogramme signifie qu’il faut mettre la victime en position latéral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pictogramme signifie que la victime ne respire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Image 10" descr="PLS.jpg"/>
          <p:cNvPicPr/>
          <p:nvPr/>
        </p:nvPicPr>
        <p:blipFill>
          <a:blip r:embed="rId1"/>
          <a:stretch/>
        </p:blipFill>
        <p:spPr>
          <a:xfrm>
            <a:off x="714240" y="142920"/>
            <a:ext cx="3643560" cy="351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7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d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opérateur est monté sur la structure pour réaliser la sou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soudeur risque une ch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soudeur risque de déformer la pièce sur laquelle il est mon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Espace réservé du contenu 11" descr="Soudage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8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placement professio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téléphone portable en condui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usage d’un téléphone portable en conduisant n’est autorisé que pour l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ls professionn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usage d’un téléphone portable en conduisant est inter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Espace réservé du contenu 11" descr="Conduite téléphone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1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 d’encaissement dans un hypermarch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ack de bouteilles d’eau pèse 9 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n’y a pas de recommandation particulière concernant la manutention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 d’eau du fait qu’il pèse moins de 12,5 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ack d’eau devrait être laissé dans le chariot pour passer en cai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Espace réservé du contenu 11" descr="Caissièr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8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ZoneTexte 6"/>
          <p:cNvSpPr/>
          <p:nvPr/>
        </p:nvSpPr>
        <p:spPr>
          <a:xfrm>
            <a:off x="5286240" y="1500120"/>
            <a:ext cx="3500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âtiment et Travaux Publ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ques relatives aux accidents de chute de hauteur avec arrê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lus grand nombre d’accidents de ce type est dû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Aux chutes lors de l’utilisation d’échafaud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Aux chutes lors de l’utilisation d’escabeaux ou d’éch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age 15" descr="Stats btp vide.jpg"/>
          <p:cNvPicPr/>
          <p:nvPr/>
        </p:nvPicPr>
        <p:blipFill>
          <a:blip r:embed="rId1"/>
          <a:stretch/>
        </p:blipFill>
        <p:spPr>
          <a:xfrm>
            <a:off x="214200" y="142920"/>
            <a:ext cx="464508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placement professio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’un véhicule utilitaire léger (moins de 3,5 tonn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faut être titulaire d’un permis poids-lourd pour conduire un véhicule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être titulaire d’un permis B pour conduire un véhicule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Espace réservé du contenu 11" descr="VUL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1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1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isation en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panneau signifie qu’il y a obligation de faire demi-t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panneau avertit de la présence d’un champ magnétique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Espace réservé du contenu 11" descr="Champ magnétique.jpg"/>
          <p:cNvPicPr/>
          <p:nvPr/>
        </p:nvPicPr>
        <p:blipFill>
          <a:blip r:embed="rId1"/>
          <a:stretch/>
        </p:blipFill>
        <p:spPr>
          <a:xfrm>
            <a:off x="571680" y="142920"/>
            <a:ext cx="3805200" cy="355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18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ZoneTexte 6"/>
          <p:cNvSpPr/>
          <p:nvPr/>
        </p:nvSpPr>
        <p:spPr>
          <a:xfrm>
            <a:off x="5286240" y="1500120"/>
            <a:ext cx="350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uration rap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cette profession le plus grand nombre d’accidents avec arrêt est dû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Aux glissades et chutes de plain-pi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Aux manutentions manuel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Espace réservé du contenu 11" descr="stat resto vide.jpg"/>
          <p:cNvPicPr/>
          <p:nvPr/>
        </p:nvPicPr>
        <p:blipFill>
          <a:blip r:embed="rId1"/>
          <a:srcRect l="10879" t="0" r="754" b="11116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automob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pont élévateur de voiture à deux colon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doit exercer un appui maintenu sur la commande tout le temps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sc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un second opérateur pour manœuvrer ce pont élévateur en tout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Espace réservé du contenu 11" descr="Garage 1.jpg"/>
          <p:cNvPicPr/>
          <p:nvPr/>
        </p:nvPicPr>
        <p:blipFill>
          <a:blip r:embed="rId1"/>
          <a:stretch/>
        </p:blipFill>
        <p:spPr>
          <a:xfrm>
            <a:off x="142920" y="142920"/>
            <a:ext cx="4735440" cy="3524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che de p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s fiches de postes doivent être stockées dans le bureau du chef d’ate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Une fiche de poste reprend les consignes de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Image 13" descr="fiche.jpg"/>
          <p:cNvPicPr/>
          <p:nvPr/>
        </p:nvPicPr>
        <p:blipFill>
          <a:blip r:embed="rId1"/>
          <a:stretch/>
        </p:blipFill>
        <p:spPr>
          <a:xfrm>
            <a:off x="142920" y="142920"/>
            <a:ext cx="483876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8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 de chant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Tous les ouvriers des Travaux Publics peuvent conduire ces eng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être titulaire d’un certificat de conduite à la sécurité (CACES) pou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re un 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Espace réservé du contenu 11" descr="Image1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tiquetage des produits chim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 étiquetage signifie que le produit est inflamm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t étiquetage signifie que ce produit est un combur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Espace réservé du contenu 11" descr="Chimie 1.jpg"/>
          <p:cNvPicPr/>
          <p:nvPr/>
        </p:nvPicPr>
        <p:blipFill>
          <a:blip r:embed="rId1"/>
          <a:stretch/>
        </p:blipFill>
        <p:spPr>
          <a:xfrm>
            <a:off x="785880" y="142920"/>
            <a:ext cx="350028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44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ion à la sécurité des nouveaux embauch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y a obligation de formation à la sécurité au poste de travail pour les nouveaux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auch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Si le nouvel embauché est titulaire d’un diplôme de l’enseignement technique,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n’y a pas d’obligation de formation à la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Espace réservé du contenu 11" descr="accrochetuteur.jpg"/>
          <p:cNvPicPr/>
          <p:nvPr/>
        </p:nvPicPr>
        <p:blipFill>
          <a:blip r:embed="rId1"/>
          <a:stretch/>
        </p:blipFill>
        <p:spPr>
          <a:xfrm>
            <a:off x="1000080" y="142920"/>
            <a:ext cx="3000600" cy="3521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50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28760" y="2142720"/>
            <a:ext cx="82864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subsidiaire 1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2009, selon les chiffres de la Sécurité Sociale, combien y a-t-il eu de maladies professionnelles mortelles 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subsidiaire 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2009, selon les chiffres de la Sécurité Sociale, combien y a-t-il eu d’accidents mortels dans les activités du bâtiment 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457200" y="152280"/>
            <a:ext cx="466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Olympi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Santé Sécuri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œuv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doit porter un casque d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ne risque rien tant qu’il reste à l’extérieur du bât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Espace réservé du contenu 11" descr="Chantier second oeuvr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d’intervention S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pictogramme signifie que la victime resp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pictogramme signifie que la victime par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 10" descr="Respire.jpg"/>
          <p:cNvPicPr/>
          <p:nvPr/>
        </p:nvPicPr>
        <p:blipFill>
          <a:blip r:embed="rId1"/>
          <a:stretch/>
        </p:blipFill>
        <p:spPr>
          <a:xfrm>
            <a:off x="642960" y="142920"/>
            <a:ext cx="3643200" cy="3541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2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e en charge d’un chariot automoteur électr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doit être titulaire d’une habilitation électrique pour réaliser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y a un risque d’explosion lors de cette opé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Espace réservé du contenu 11" descr="Charge d'un CACP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Espace réservé du contenu 11" descr="Préparation de commande 1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paration de commande dans un entrepô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risque de souffrir d’un trouble musculo-squelettique (TMS) si i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le fréquemment dans cette posi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réglementation impose le port de chaussures de sécurité  pour cette 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Connecteur droit avec flèche 14"/>
          <p:cNvCxnSpPr/>
          <p:nvPr/>
        </p:nvCxnSpPr>
        <p:spPr>
          <a:xfrm flipH="1" flipV="1">
            <a:off x="2642400" y="2214360"/>
            <a:ext cx="71532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Text Box 10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s œuv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situé sur l’escabeau risque une chute de haute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réglementation interdit de travailler en sh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Espace réservé du contenu 11" descr="Chantier 1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tion d’une entreprise extérie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travaillant sur l’échafaudage vert n’est pas protégé contre les chut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hau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sur l’échafaudage devrait s’accrocher au garde corps pour avoir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illeure stabi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Espace réservé du contenu 11" descr="Chantier second oeuvre 2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1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4:48:17Z</dcterms:created>
  <dc:creator>Claude</dc:creator>
  <dc:description/>
  <dc:language>en-US</dc:language>
  <cp:lastModifiedBy>Claude</cp:lastModifiedBy>
  <dcterms:modified xsi:type="dcterms:W3CDTF">2011-01-24T15:04:56Z</dcterms:modified>
  <cp:revision>144</cp:revision>
  <dc:subject/>
  <dc:title>Olympiades</dc:title>
</cp:coreProperties>
</file>