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4FD-4C54-4D66-A921-D610BA45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27D-864F-4E55-9594-4D3C1A41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79E-3349-4C55-9D13-30E5F01A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300-7F29-4256-A3B6-BC9E9B51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120-2BC4-4DD7-9A4B-7ED811FB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90B-4F21-4AED-903E-57AAAD23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528-B8A3-43A4-B25B-07591CA5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B87-3F68-42CD-8024-5EACC831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4C0-DCCF-41EF-B89E-4E7B8DBD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F94-9106-4555-AF5A-D3AA9C76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59F-B3FB-4E71-8DDF-FB46938E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F85-1B90-4D46-BD41-8B57DB54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78DF-B48D-451C-82E3-86174F4D55FF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7120" y="2714760"/>
            <a:ext cx="84297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2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n’y a qu’une seule proposition de vra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 bonne proposition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" name="Image 5" descr="Image1.jpg"/>
          <p:cNvPicPr/>
          <p:nvPr/>
        </p:nvPicPr>
        <p:blipFill>
          <a:blip r:embed="rId1"/>
          <a:stretch/>
        </p:blipFill>
        <p:spPr>
          <a:xfrm>
            <a:off x="6804000" y="404640"/>
            <a:ext cx="950760" cy="10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3" name="Image 7" descr="Image3.jpg"/>
          <p:cNvPicPr/>
          <p:nvPr/>
        </p:nvPicPr>
        <p:blipFill>
          <a:blip r:embed="rId2"/>
          <a:stretch/>
        </p:blipFill>
        <p:spPr>
          <a:xfrm>
            <a:off x="7885080" y="404640"/>
            <a:ext cx="755640" cy="107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8" descr="carsat_nordpicardie.jpg"/>
          <p:cNvPicPr/>
          <p:nvPr/>
        </p:nvPicPr>
        <p:blipFill>
          <a:blip r:embed="rId3"/>
          <a:stretch/>
        </p:blipFill>
        <p:spPr>
          <a:xfrm>
            <a:off x="4932360" y="404640"/>
            <a:ext cx="1727280" cy="5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Espace réservé du contenu 11" descr="Circulation bureau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Espace réservé du contenu 14" descr="Condamnation électriqu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Espace réservé du contenu 11" descr="Chantier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dans une zone bruy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Espace réservé du contenu 12" descr="EPI.jpg"/>
          <p:cNvPicPr/>
          <p:nvPr/>
        </p:nvPicPr>
        <p:blipFill>
          <a:blip r:embed="rId1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s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Espace réservé du contenu 11" descr="CACP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Espace réservé du contenu 11" descr="3M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Espace réservé du contenu 11" descr="Aide a domicil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Espace réservé du contenu 11" descr="Souflett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Espace réservé du contenu 11" descr="Nacelle élévatric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Espace réservé du contenu 11" descr="Peinture pistolet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uvetage secourisme du trav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’il faut mettre la victime en position latéral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ne respir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 10" descr="PLS.jpg"/>
          <p:cNvPicPr/>
          <p:nvPr/>
        </p:nvPicPr>
        <p:blipFill>
          <a:blip r:embed="rId1"/>
          <a:stretch/>
        </p:blipFill>
        <p:spPr>
          <a:xfrm>
            <a:off x="714240" y="142920"/>
            <a:ext cx="3643560" cy="35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Espace réservé du contenu 11" descr="Soudag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Espace réservé du contenu 11" descr="Conduite téléphon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Espace réservé du contenu 11" descr="Caissiè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l’utilisation d’échafaud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escabeaux ou d’éch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15" descr="Stats btp vide.jpg"/>
          <p:cNvPicPr/>
          <p:nvPr/>
        </p:nvPicPr>
        <p:blipFill>
          <a:blip r:embed="rId1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Espace réservé du contenu 11" descr="VUL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Espace réservé du contenu 11" descr="Champ magnétique.jpg"/>
          <p:cNvPicPr/>
          <p:nvPr/>
        </p:nvPicPr>
        <p:blipFill>
          <a:blip r:embed="rId1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glissades et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Espace réservé du contenu 11" descr="stat resto vide.jpg"/>
          <p:cNvPicPr/>
          <p:nvPr/>
        </p:nvPicPr>
        <p:blipFill>
          <a:blip r:embed="rId1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Espace réservé du contenu 11" descr="Garage 1.jpg"/>
          <p:cNvPicPr/>
          <p:nvPr/>
        </p:nvPicPr>
        <p:blipFill>
          <a:blip r:embed="rId1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 13" descr="fiche.jpg"/>
          <p:cNvPicPr/>
          <p:nvPr/>
        </p:nvPicPr>
        <p:blipFill>
          <a:blip r:embed="rId1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Espace réservé du contenu 11" descr="Chimie 1.jpg"/>
          <p:cNvPicPr/>
          <p:nvPr/>
        </p:nvPicPr>
        <p:blipFill>
          <a:blip r:embed="rId1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4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Espace réservé du contenu 11" descr="accrochetuteur.jpg"/>
          <p:cNvPicPr/>
          <p:nvPr/>
        </p:nvPicPr>
        <p:blipFill>
          <a:blip r:embed="rId1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57200" y="152280"/>
            <a:ext cx="466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e la victime resp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par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10" descr="Respire.jpg"/>
          <p:cNvPicPr/>
          <p:nvPr/>
        </p:nvPicPr>
        <p:blipFill>
          <a:blip r:embed="rId1"/>
          <a:stretch/>
        </p:blipFill>
        <p:spPr>
          <a:xfrm>
            <a:off x="642960" y="142920"/>
            <a:ext cx="364320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Espace réservé du contenu 11" descr="Charge d'un CACP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Espace réservé du contenu 11" descr="Préparation de commande 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mpose le port de chaussures de sécurité  pour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Espace réservé du contenu 11" descr="Chantier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n’est pas protégé contre les chut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Espace réservé du contenu 11" descr="Chantier second oeuvre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</cp:lastModifiedBy>
  <dcterms:modified xsi:type="dcterms:W3CDTF">2011-01-24T15:04:56Z</dcterms:modified>
  <cp:revision>144</cp:revision>
  <dc:subject/>
  <dc:title>Olympiades</dc:title>
</cp:coreProperties>
</file>