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38D-FC3B-4972-9669-9B1F1B1E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AA7-7DAB-4441-83CE-1DA12BBA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F39-2268-4F39-B647-8262CCC5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F2F-26FC-449F-AEAA-809B3764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A75-E252-4819-89F6-1C4C2292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DBA1-0AF4-4B1D-AF30-7277543F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72D8-9DDC-4490-8688-E348172F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239-4038-4210-92F5-4BDEBF9C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3CFE-B1DA-4A2F-8A83-703CB34A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044-B8B4-49D6-A873-E45BDDAE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0ACB-C96F-43D0-BDCE-19013980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7AB-D661-4773-8109-FC9591FF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6127-74B8-4090-ADB7-9C81915425E9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5280" y="2565000"/>
            <a:ext cx="84297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CONSIGNES :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ur chaque diapositive, il y 4 propositions de réponses.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l peut y avoir plusieurs bonnes réponses par diapositiv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Vous devez entourer la(les) bonne(s) réponse(s) sur la grille papier qui vous est fournie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Remerciements à l’INRS pour la quasi totalité des photos illustrant ces diapositiv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533520" y="380880"/>
            <a:ext cx="466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Olympi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Santé Sécuri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8" descr="Image1.jpg"/>
          <p:cNvPicPr/>
          <p:nvPr/>
        </p:nvPicPr>
        <p:blipFill>
          <a:blip r:embed="rId2"/>
          <a:stretch/>
        </p:blipFill>
        <p:spPr>
          <a:xfrm>
            <a:off x="6804000" y="549360"/>
            <a:ext cx="950760" cy="1090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4" name="Image 9" descr="Image3.jpg"/>
          <p:cNvPicPr/>
          <p:nvPr/>
        </p:nvPicPr>
        <p:blipFill>
          <a:blip r:embed="rId3"/>
          <a:stretch/>
        </p:blipFill>
        <p:spPr>
          <a:xfrm>
            <a:off x="7885080" y="549360"/>
            <a:ext cx="755640" cy="1079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5" name="Image 10" descr="carsat_nordpicardie.jpg"/>
          <p:cNvPicPr/>
          <p:nvPr/>
        </p:nvPicPr>
        <p:blipFill>
          <a:blip r:embed="rId4"/>
          <a:stretch/>
        </p:blipFill>
        <p:spPr>
          <a:xfrm>
            <a:off x="4932360" y="549360"/>
            <a:ext cx="1727280" cy="507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tion dans un bur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sence de câbles électriques au s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existe un risque de chute de plain-p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ersonne a l’habitude de la présence de ces câbles et ne risque donc 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 port de chaussures à talons hauts est interdit en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installations électriques d’une entreprise doivent être vérifié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gulièr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Espace réservé du contenu 11" descr="Circulation bureau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llation électr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dispositif permet de vérifier la présence de courant dans l’insta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dispositif empêche la mise sous tension accidentelle d’une parti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sta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installations électriques d’une entreprise doivent être vérifiées par u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sme agréé ou un technicien qualifi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Étant donné le type de matériel électrique contenu dans cette armoire, il n’es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nécessaire qu’elle soit équipée d’une porte fermant à cle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Espace réservé du contenu 14" descr="Condamnation électriqu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2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sence du maître d’ouvrage et du maître d’œuvre sur l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s personnes ne doivent pas porter de casque de chantier. Elles sont protégé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le filet de sécurité tendu au dessus d’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s personnes doivent porter un casque d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casque rouge est réservé au maître d’ouv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 maître d’ouvrage doit désigner un coordonnateur de sécurité sur un chantie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ù doivent travailler plusieurs entrepri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Espace réservé du contenu 11" descr="Chantier 2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quipements de protection individu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niveau sonore à risque est fixé réglementairement à 8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niveau sonore à risque est fixé réglementairement à 9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Si 2 machines générant chacune 80 dBA sont placées côte à côte. Le niveau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re sera de 16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Si 2 machines générant chacune 80 dBA sont placées côte à côte. Le niveau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re sera de 83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Espace réservé du contenu 12" descr="EPI.jpg"/>
          <p:cNvPicPr/>
          <p:nvPr/>
        </p:nvPicPr>
        <p:blipFill>
          <a:blip r:embed="rId2"/>
          <a:srcRect l="0" t="0" r="7391" b="0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e de chargement et déchargement de camion dans une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camion devrait être stationné dans la zone délimitée par le cadre blanc pein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s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Réglementairement, le cadre peint au sol devrait être de couleur ja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entreprises accueillant des transporteurs doivent mettre en place d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es d’accueil de ces transporte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Seules les entreprises de plus de 100 salariés doivent mettre en place c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Espace réservé du contenu 11" descr="CACP 2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7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ten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hargement d’une palet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n’encourt pas de risque particulier du fait que les cartons pèsen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ins de 25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pérateur risque un lumb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bonne habitude évite tout ris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’opérateur devrait porter une veste à manches longues pour réaliser c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Espace réservé du contenu 11" descr="3M 1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e à domic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toyage d’une salle de b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port d’un masque respiratoire est obligatoire pour réaliser ces trava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aide à domicile travaille dans une position inconfor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C’est le client qui fournit les produits de nettoy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Il est obligatoire d’utiliser de l’eau de javel pour nettoyer une salle de b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Espace réservé du contenu 11" descr="Aide a domicil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1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e du bo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toyage des vêtements à l’aide d’une soufflette en fin de p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Si l’ouvrier ferme bien les yeux il n’y a pas de risque particu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risque un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poussières de bois qui se dégagent lors de cette opération sont dangereus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la san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a veste de l’opérateur devrait obligatoirement être de couleur ble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Espace réservé du contenu 11" descr="Souflett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8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’une nacelle élévatrice lors d’une intervention sur un lumin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a rue devrait être interdite à la circulation pendant ces trava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résence d’un opérateur situé au sol est obligatoire lors de l’utilisation d’u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Il faut être titulaire d’un certificat de conduite à la sécurité pour manœuvrer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elle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Si les feux de détresse du camion porte-engin sont allumés, il est inutil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re des cônes de signali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Espace réservé du contenu 11" descr="Nacelle élévatric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inture par pulvéri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e peinture avec solvant pétro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peintre risque une maladie professionnelle de l’épaule si il réalis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gulièrement ce typ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eintre porte tous ses équipements de protection individuelle. Il ne risqu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cabine de peinture par pulvérisation doit être munie d’une système effica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pistolet de peinture doit être relié électriquement à la ter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Espace réservé du contenu 11" descr="Peinture pistolet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Espace réservé du contenu 3" descr="Image4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9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e à domic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travail ne présente pas de risque particu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travail génère du str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(e) aide à domicile peut avoir plusieurs employe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(e) aide à domicile peut être exposé(e) à un risque d’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génér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age sur un tour parallè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ions d’huile de cou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huile de coupe peut provoquer une maladie professionnelle de la p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huile de coupe, étant diluée dans de l’eau, ne génère pas de ris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pièce lisse en rotation peut entraîner les vêtements de l’opéra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Il faut être habilité pour travailler sur un tour parallè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Espace réservé du contenu 11" descr="Tour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d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opérateur est monté sur la structure pour réaliser la sou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soudeur risque une ch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soudeur risque de déformer la pièce sur laquelle il est mon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fumées émises lors du soudage présentent des risques pour la santé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 ’opéra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e bonne ventilation générale est suffisante pour éviter tout risque pour la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té de l’opéra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Espace réservé du contenu 11" descr="Soudage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8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placement professio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téléphone portable en condui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usage d’un téléphone portable en conduisant n’est autorisé que pour l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ls professionn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usage d’un téléphone portable en conduisant est inter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 conducteur risque un retrait de 2 points sur son permis de condu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conducteur risque une amende forfaitaire de 90 €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Espace réservé du contenu 11" descr="Conduite téléphone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 d’encaissement dans un hypermarch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ack de bouteilles d’eau pèse 9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n’y a pas de recommandation particulière concernant la manutention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 d’eau du fait qu’il pèse moins de 12,5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ack d’eau devrait être laissé dans le chariot pour passer en cai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Il existe un risque de trouble musculo-squelettique des membres supérieurs lor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’exercice de cette prof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stress généré par cette profession accroît le risque de trouble musculo-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uelettique des membres supéri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Espace réservé du contenu 11" descr="Caissièr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286240" y="1500120"/>
            <a:ext cx="3500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âtiment et Travaux Publ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ques relatives aux accidents de chute de hauteur avec arrê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lus grand nombre d’accidents de ce type est dû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Aux chutes lors de travaux sur toi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Aux chutes lors de l’utilisation d’un échafaud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Aux chutes lors de l’utilisation d’une échelle ou d’un escab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Aux chutes dans des tranchées de travaux publ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Image 15" descr="Stats btp vide.jpg"/>
          <p:cNvPicPr/>
          <p:nvPr/>
        </p:nvPicPr>
        <p:blipFill>
          <a:blip r:embed="rId2"/>
          <a:stretch/>
        </p:blipFill>
        <p:spPr>
          <a:xfrm>
            <a:off x="214200" y="142920"/>
            <a:ext cx="464508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7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placement professio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’un véhicule utilitaire léger (moins de 3,5 tonn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faut être titulaire d’un permis poids-lourd pour conduire un véhicule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être titulaire d’un permis B pour conduire un véhicule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dépassement de la charge utile de plus de 5 % peut entraîne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mmobilisation du véhi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a notion de « moins de 3,5 tonnes » s’applique au poids de la charg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Espace réservé du contenu 11" descr="VUL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1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1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isation en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panneau signifie qu’il y a obligation de faire demi-t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panneau avertit de la présence d’un champ magnétique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panneau triangulaire à fond jaune est un panneau d’avertiss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 panneau triangulaire à fond jaune est un panneau d’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Espace réservé du contenu 11" descr="Champ magnétique.jpg"/>
          <p:cNvPicPr/>
          <p:nvPr/>
        </p:nvPicPr>
        <p:blipFill>
          <a:blip r:embed="rId2"/>
          <a:stretch/>
        </p:blipFill>
        <p:spPr>
          <a:xfrm>
            <a:off x="571680" y="142920"/>
            <a:ext cx="3805200" cy="355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0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oneTexte 6"/>
          <p:cNvSpPr/>
          <p:nvPr/>
        </p:nvSpPr>
        <p:spPr>
          <a:xfrm>
            <a:off x="5286240" y="1500120"/>
            <a:ext cx="350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uration rap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cette profession le plus grand nombre d’accidents avec arrêt est dû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Aux coup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Aux manutentions manu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Aux chutes de plain-pi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Aux brûlures causées par les friteuses et les gri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Espace réservé du contenu 11" descr="stat resto vide.jpg"/>
          <p:cNvPicPr/>
          <p:nvPr/>
        </p:nvPicPr>
        <p:blipFill>
          <a:blip r:embed="rId2"/>
          <a:srcRect l="10879" t="0" r="754" b="11116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7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automob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pont élévateur de voiture à deux colon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doit exercer un appui maintenu sur la commande tout le temps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sc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un second opérateur pour manœuvrer ce pont élévateur en tout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pont élévateur de voiture doit être vérifié tous les 2 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 pont élévateur de voiture doit être vérifié tous les 6 mo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Espace réservé du contenu 11" descr="Garage 1.jpg"/>
          <p:cNvPicPr/>
          <p:nvPr/>
        </p:nvPicPr>
        <p:blipFill>
          <a:blip r:embed="rId2"/>
          <a:stretch/>
        </p:blipFill>
        <p:spPr>
          <a:xfrm>
            <a:off x="142920" y="142920"/>
            <a:ext cx="4735440" cy="3524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che de p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s fiches de postes doivent être stockées dans le bureau du chef d’ate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Une fiche de poste reprend les consignes de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a fiche de poste donnée à un nouvel opérateur suffit à assurer sa formation à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e fiche de poste fait partie de la formation à la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Image 13" descr="fiche.jpg"/>
          <p:cNvPicPr/>
          <p:nvPr/>
        </p:nvPicPr>
        <p:blipFill>
          <a:blip r:embed="rId2"/>
          <a:stretch/>
        </p:blipFill>
        <p:spPr>
          <a:xfrm>
            <a:off x="142920" y="142920"/>
            <a:ext cx="483876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40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 de chant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Tous les ouvriers des Travaux Publics peuvent conduire ces eng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être titulaire d’un certificat de conduite à la sécurité (CACES) pou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re un 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Il faut être titulaire d’un permis poids lourds pour conduire un 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 engin de ce type est soumis à la procédure d’ «autocertification C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Espace réservé du contenu 11" descr="Image1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tiquetage des produits chim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 étiquetage signifie que le produit est inflamm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t étiquetage signifie que ce produit est un combur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Quand on prélève une quantité de ce produit dans un plus petit contenant, 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ut étiqueter ce nouveau conten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Quand on prélève une quantité de ce produit dans un plus petit contenant, 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fit de noter au feutre indélébile le nom du produit prélev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Espace réservé du contenu 11" descr="Chimie 1.jpg"/>
          <p:cNvPicPr/>
          <p:nvPr/>
        </p:nvPicPr>
        <p:blipFill>
          <a:blip r:embed="rId2"/>
          <a:stretch/>
        </p:blipFill>
        <p:spPr>
          <a:xfrm>
            <a:off x="785880" y="142920"/>
            <a:ext cx="350028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46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ion à la sécurité des nouveaux embauch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y a obligation de formation à la sécurité au poste de travail pour les nouveaux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auch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Si le nouvel embauché est titulaire d’un diplôme de l’enseignement technique,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n’y a pas d’obligation de formation à la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« parrainage » est suffisant comme formation à la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Si le nouvel embauché est titulaire d’un diplôme d’au moins Bac+2, il n’es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obligatoire de le former à la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Espace réservé du contenu 11" descr="accrochetuteur.jpg"/>
          <p:cNvPicPr/>
          <p:nvPr/>
        </p:nvPicPr>
        <p:blipFill>
          <a:blip r:embed="rId2"/>
          <a:stretch/>
        </p:blipFill>
        <p:spPr>
          <a:xfrm>
            <a:off x="1000080" y="142920"/>
            <a:ext cx="3000600" cy="3521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52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ZoneTexte 6"/>
          <p:cNvSpPr/>
          <p:nvPr/>
        </p:nvSpPr>
        <p:spPr>
          <a:xfrm>
            <a:off x="5286240" y="1500120"/>
            <a:ext cx="350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 répétiti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tte opératrice tient fermement l’objet (poids inférieur à 1 kg) avec sa main droite, et ce, plusieurs dizaines de fois par j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te opératrice risque un trouble musculo-squelettiq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Du fait du poids inférieur à 1 kg, l’opératrice ne risque 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troubles musculo-squelettiques arrivent en première position en nombr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larations de maladies profession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troubles musculo-squelettiques arrivent en seconde position en nombr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larations de maladies professionnelles après les surdité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Espace réservé du contenu 11" descr="TMS.jpg"/>
          <p:cNvPicPr/>
          <p:nvPr/>
        </p:nvPicPr>
        <p:blipFill>
          <a:blip r:embed="rId2"/>
          <a:stretch/>
        </p:blipFill>
        <p:spPr>
          <a:xfrm>
            <a:off x="214200" y="142920"/>
            <a:ext cx="4665600" cy="352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5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ux publ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brise-béton pneumatique (marteau piqueu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 ouvrier ne risque rien, il porte des bottes d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t ouvrier risque les lésions des membres supérie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Il existe des brise-bétons équipés de dispositifs anti-br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Il existe des brise-bétons équipés de dispositifs anti-vib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Espace réservé du contenu 11" descr="NuisPhysVibra.jpg"/>
          <p:cNvPicPr/>
          <p:nvPr/>
        </p:nvPicPr>
        <p:blipFill>
          <a:blip r:embed="rId2"/>
          <a:stretch/>
        </p:blipFill>
        <p:spPr>
          <a:xfrm>
            <a:off x="1143000" y="142920"/>
            <a:ext cx="2643120" cy="3541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65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généra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age au tour parallè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protecteur jaune sert, entre autre, à limiter les projections d’huile de cou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devrait retirer le protecteur jaune afin de mieux voir la pièce qu’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’ouvrier doit obligatoirement porter une veste à manches long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’ouvrier doit obligatoirement porter des lunettes de pro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Espace réservé du contenu 11" descr="Tour 2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7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gnes d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érarchisation des mesures de prév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Si, comme sur la photo, les consignes de sécurité sont clairement visibles, ell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fisent à assurer la sécurité des opérate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s consignes de sécurité viennent en complément de la formation à la sécurité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protection collective est plus efficace que des consignes d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e protection collective est plus efficace que des équipements de protectio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Espace réservé du contenu 11" descr="Avertissement.jpg"/>
          <p:cNvPicPr/>
          <p:nvPr/>
        </p:nvPicPr>
        <p:blipFill>
          <a:blip r:embed="rId2"/>
          <a:srcRect l="4371" t="0" r="0" b="0"/>
          <a:stretch/>
        </p:blipFill>
        <p:spPr>
          <a:xfrm>
            <a:off x="214200" y="142920"/>
            <a:ext cx="469260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7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es d’appels téléphon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n’y pas de risque particulier du fait qu’il s’agit d’un travail de bur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travail génère un stress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De part la nature de ce travail, l’employeur n’a pas l’obligation de réaliser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valuation des risques professionn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niveau sonore ambiant peut provoquer des surdités profession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Espace réservé du contenu 11" descr="CallCenter5.jpg"/>
          <p:cNvPicPr/>
          <p:nvPr/>
        </p:nvPicPr>
        <p:blipFill>
          <a:blip r:embed="rId2"/>
          <a:srcRect l="10884" t="0" r="0" b="0"/>
          <a:stretch/>
        </p:blipFill>
        <p:spPr>
          <a:xfrm>
            <a:off x="214200" y="142920"/>
            <a:ext cx="468000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8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e du bo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outillage portatif générant de la poussière de bo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bois étant un matériau naturel, il n’y a pas de risque particu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s poussières de bois peuvent provoquer des maladies gra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Dans certaines conditions, les poussières de bois sont explos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port d’un masque anti-poussières suffirait à éviter tous risques pou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opéra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Image 15" descr="poussières bois.jpg"/>
          <p:cNvPicPr/>
          <p:nvPr/>
        </p:nvPicPr>
        <p:blipFill>
          <a:blip r:embed="rId2"/>
          <a:stretch/>
        </p:blipFill>
        <p:spPr>
          <a:xfrm>
            <a:off x="1357200" y="142920"/>
            <a:ext cx="2143080" cy="3535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92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automo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 opérateur relie le pot d’échappement à un système d’a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t opérateur fait le plein en gaz GPL d’un véhi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gaz d’échappement contiennent des produits toxiques ou nocif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plaquettes de freins montées sur les véhicules neufs contiennent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mi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Espace réservé du contenu 11" descr="gaz echappement.jpg"/>
          <p:cNvPicPr/>
          <p:nvPr/>
        </p:nvPicPr>
        <p:blipFill>
          <a:blip r:embed="rId2"/>
          <a:srcRect l="0" t="3894" r="0" b="0"/>
          <a:stretch/>
        </p:blipFill>
        <p:spPr>
          <a:xfrm>
            <a:off x="214200" y="142920"/>
            <a:ext cx="4643640" cy="3527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9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e aliment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tentions manu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rice chargeant la palette est trop grande pour faire cette 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alette devrait être placée plus haut pour limiter le risque de lumb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machines utilisées dans l’industrie agro-alimentaire font l’objet d’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édure d’autocertification de la part du fabric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machines utilisées dans l’industrie agro-alimentaire doivent correspondre à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normes de fabrication spé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Espace réservé du contenu 11" descr="3M 2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0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œuv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doit porter un casque d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ne risque rien tant qu’il reste à l’extérieur du bât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 port de vêtements de travail  (pantalon et veste) est obligatoire sur les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ors de la construction d’un bâtiment il est demandé d’avoir des zones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Espace réservé du contenu 11" descr="Chantier second oeuvr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s produits utilisés dans les pressings peuvent provoquer des maladi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obligatoirement porter des gants pour travailler dans un pre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 repassage des vêtements peut provoquer des troubles musculo-squelet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temps de séchage des machines utilisées pour le nettoyage à sec peut êtr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glé par les opératr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Espace réservé du contenu 11" descr="nettoyage a sec.jpg"/>
          <p:cNvPicPr/>
          <p:nvPr/>
        </p:nvPicPr>
        <p:blipFill>
          <a:blip r:embed="rId2"/>
          <a:srcRect l="14391" t="0" r="591" b="0"/>
          <a:stretch/>
        </p:blipFill>
        <p:spPr>
          <a:xfrm>
            <a:off x="214200" y="142920"/>
            <a:ext cx="4643640" cy="3503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1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oneTexte 6"/>
          <p:cNvSpPr/>
          <p:nvPr/>
        </p:nvSpPr>
        <p:spPr>
          <a:xfrm>
            <a:off x="5286240" y="1500120"/>
            <a:ext cx="350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églementation impose une hiérarchisation dans les mesures de prév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quel ordre faut-il ranger ces dessins pour répondre à cette obliga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2 – 4 – 3 –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1 – 2 – 4 – 3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1 – 2 – 3 –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 – 2 – 3 – 4 –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Espace réservé du contenu 14" descr="Montage.jpg"/>
          <p:cNvPicPr/>
          <p:nvPr/>
        </p:nvPicPr>
        <p:blipFill>
          <a:blip r:embed="rId2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2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28760" y="2142720"/>
            <a:ext cx="82864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subsidiaire 1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2008, selon les chiffres de la Sécurité Sociale, combien y a-t-il eu de maladies professionnelles mortelles 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subsidiaire 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2008, selon les chiffres de la Sécurité Sociale, combien y a-t-il eu d’accidents mortels dans les activités du bâtiment 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33520" y="380880"/>
            <a:ext cx="466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Olympi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Santé Sécuri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es chariots automoteurs à conducteur porté (CAC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s fourches du chariot devraient être positionnées à 15 centimètres du so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dant les déplac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n’y a pas de recommandation spécifique quant à la hauteur des four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Tous les opérateurs de l’entreprise peuvent conduire un engin de ce type si il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t titulaires d’un permis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cariste doit avoir suivi une formation de type Certificat d’Aptitude à la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En Sécurité (CA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Espace réservé du contenu 11" descr="CACP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e en charge d’un chariot automoteur électr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doit être titulaire d’une habilitation électrique pour réaliser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y a un risque d’explosion lors de cette opé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salle de charge de chariots automoteurs électriques doit être équipée d’u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ème de venti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chariots automoteurs doivent être vérifiés régulièr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Espace réservé du contenu 11" descr="Charge d'un CACP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Espace réservé du contenu 11" descr="Préparation de commande 1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paration de commande dans un entrepô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risque de souffrir d’un trouble musculo-squelettique (TMS) si 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le fréquemment dans cette posi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ort de chaussures de sécurité peut être rendu obligatoire dans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allées de circulation pour chariots doivent obligatoirement être à sen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allées de circulation doivent être maintenues dégagées de tout stock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Connecteur droit avec flèche 14"/>
          <p:cNvCxnSpPr/>
          <p:nvPr/>
        </p:nvCxnSpPr>
        <p:spPr>
          <a:xfrm flipH="1" flipV="1">
            <a:off x="2642400" y="2214360"/>
            <a:ext cx="71532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8" name="Text Box 10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 œuv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situé sur l’escabeau risque une chute de haute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réglementation interdit de travailler en sh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Cette équipe d’ouvrier réalise toujours le même travail. Ils n’ont pas besoin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voir une formation spécifique au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 casque de chantier a une date limite d’utili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Espace réservé du contenu 11" descr="Chantier 1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tion d’une entreprise extérie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travaillant sur l’échafaudage vert est protégé contre les chutes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sur l’échafaudage devrait s’accrocher au garde corps pour avoir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illeure stabi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utilisateurs d’échafaudages doivent avoir suivi une formation spécif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’ouvrier situé sur l’échafaudage aurait dû utiliser un escabeau pour réalise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Espace réservé du contenu 11" descr="Chantier second oeuvre 2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4:48:17Z</dcterms:created>
  <dc:creator>Claude</dc:creator>
  <dc:description/>
  <dc:language>en-US</dc:language>
  <cp:lastModifiedBy>Claude REVERE</cp:lastModifiedBy>
  <dcterms:modified xsi:type="dcterms:W3CDTF">2011-02-03T10:51:33Z</dcterms:modified>
  <cp:revision>170</cp:revision>
  <dc:subject/>
  <dc:title>Olympiades</dc:title>
</cp:coreProperties>
</file>