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C5D-40F7-4DA1-B996-9F4617F8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E49-2D89-4EEC-A599-0136E74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001-5514-400A-B893-D34A2E98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DB1-8049-43CB-BA8D-4B3911AE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1B9-8D3A-4BFC-BFCB-4DC36A3F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998-1419-4716-8CC7-0BA873D3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FFF-D953-4934-B5F3-5DDA923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28A-931C-4CDE-A255-CA7FA22F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6F9-5984-4288-9DE4-74E8DA7D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50C-2BCB-4188-A06F-3256DBF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F99-F9C9-4AA3-B64A-0D3C3630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018-8FA3-47CD-ABEA-0A1DE16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5638-E985-4E46-BF48-CCB6C91810D7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4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peut y avoir plusieurs bonnes réponses par diapositiv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(les) bonne(s) réponse(s)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8" descr="Image1.jpg"/>
          <p:cNvPicPr/>
          <p:nvPr/>
        </p:nvPicPr>
        <p:blipFill>
          <a:blip r:embed="rId2"/>
          <a:stretch/>
        </p:blipFill>
        <p:spPr>
          <a:xfrm>
            <a:off x="6804000" y="549360"/>
            <a:ext cx="950760" cy="10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4" name="Image 9" descr="Image3.jpg"/>
          <p:cNvPicPr/>
          <p:nvPr/>
        </p:nvPicPr>
        <p:blipFill>
          <a:blip r:embed="rId3"/>
          <a:stretch/>
        </p:blipFill>
        <p:spPr>
          <a:xfrm>
            <a:off x="7885080" y="549360"/>
            <a:ext cx="755640" cy="107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Image 10" descr="carsat_nordpicardie.jpg"/>
          <p:cNvPicPr/>
          <p:nvPr/>
        </p:nvPicPr>
        <p:blipFill>
          <a:blip r:embed="rId4"/>
          <a:stretch/>
        </p:blipFill>
        <p:spPr>
          <a:xfrm>
            <a:off x="4932360" y="549360"/>
            <a:ext cx="1727280" cy="50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chaussures à talons hauts est interdit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installations électriques d’une entreprise doivent être vérifi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Espace réservé du contenu 11" descr="Circulation bureau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installations électriques d’une entreprise doivent être vérifiées par 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e agréé ou un technicien qualif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Étant donné le type de matériel électrique contenu dans cette armoire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nécessaire qu’elle soit équipée d’une porte fermant à cl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space réservé du contenu 14" descr="Condamnation électriqu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casque rouge est réservé au maître d’ouv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maître d’ouvrage doit désigner un coordonnateur de sécurité sur un chanti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ù doivent travailler plusieurs entrepr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Espace réservé du contenu 11" descr="Chantie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16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83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space réservé du contenu 12" descr="EPI.jpg"/>
          <p:cNvPicPr/>
          <p:nvPr/>
        </p:nvPicPr>
        <p:blipFill>
          <a:blip r:embed="rId2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entreprises accueillant des transporteurs doivent mettre en place d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 d’accueil de ces transpor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eules les entreprises de plus de 100 salariés doivent mettre en place c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pace réservé du contenu 11" descr="CACP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bonne habitude évite tout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pérateur devrait porter une veste à manches longues pour réaliser c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space réservé du contenu 11" descr="3M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ort d’un masque respiratoire est obligatoire pour réaliser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’est le client qui fournit les produits de nettoy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Espace réservé du contenu 11" descr="Aide a domicil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poussières de bois qui se dégagent lors de cette opération sont dangereus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a sa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veste de l’opérateur devrait obligatoirement être de couleur bl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Espace réservé du contenu 11" descr="Souflett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certificat de conduite à la sécurité pour manœuvr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elle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s feux de détresse du camion porte-engin sont allumés, il est inuti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des cônes de signa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Espace réservé du contenu 11" descr="Nacelle élévatric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e peinture avec solvant pétro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cabine de peinture par pulvérisation doit être munie d’une système effica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istolet de peinture doit être relié électriquement à la te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Espace réservé du contenu 11" descr="Peinture pistolet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(e) aide à domicile peut avoir plusieurs employ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(e) aide à domicile peut être exposé(e) à un risque d’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huile de coupe peut provoquer une maladie professionnelle de la p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huile de coupe, étant diluée dans de l’eau, ne génère pas de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ièce lisse en rotation peut entraîner les vêtements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faut être habilité pour travailler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Espace réservé du contenu 11" descr="Tour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fumées émises lors du soudage présentent des risques pour la santé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 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bonne ventilation générale est suffisante pour éviter tout risque pour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é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Espace réservé du contenu 11" descr="Soud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conducteur risque un retrait de 2 points sur son permis de condu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onducteur risque une amende forfaitaire de 90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Espace réservé du contenu 11" descr="Conduite téléphon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un risque de trouble musculo-squelettique des membres supérieurs lor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’exercice de cette prof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stress généré par cette profession accroît le risque de trouble musculo-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elettique des membres supéri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Espace réservé du contenu 11" descr="Caissiè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travaux sur toi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un échafa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lors de l’utilisation d’une échelle ou d’un escab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chutes dans des tranchées de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15" descr="Stats btp vid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dépassement de la charge utile de plus de 5 % peut entraîn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obilisation du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notion de « moins de 3,5 tonnes » s’applique au poids de la charg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Espace réservé du contenu 11" descr="VUL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anneau triangulaire à fond jaune est un panneau d’avertiss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anneau triangulaire à fond jaune est un panneau d’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Espace réservé du contenu 11" descr="Champ magnétique.jpg"/>
          <p:cNvPicPr/>
          <p:nvPr/>
        </p:nvPicPr>
        <p:blipFill>
          <a:blip r:embed="rId2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oup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brûlures causées par les friteuses et les gr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Espace réservé du contenu 11" descr="stat resto vide.jpg"/>
          <p:cNvPicPr/>
          <p:nvPr/>
        </p:nvPicPr>
        <p:blipFill>
          <a:blip r:embed="rId2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ont élévateur de voiture doit être vérifié tous les 2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ont élévateur de voiture doit être vérifié tous les 6 m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Espace réservé du contenu 11" descr="Garage 1.jpg"/>
          <p:cNvPicPr/>
          <p:nvPr/>
        </p:nvPicPr>
        <p:blipFill>
          <a:blip r:embed="rId2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a fiche de poste donnée à un nouvel opérateur suffit à assurer sa formation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fiche de poste fait partie de la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 13" descr="fiche.jpg"/>
          <p:cNvPicPr/>
          <p:nvPr/>
        </p:nvPicPr>
        <p:blipFill>
          <a:blip r:embed="rId2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permis poids lourds pour 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engin de ce type est soumis à la procédure d’ «autocertification C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t étiqueter ce nouveau cont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t de noter au feutre indélébile le nom du produit préle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Espace réservé du contenu 11" descr="Chimie 1.jpg"/>
          <p:cNvPicPr/>
          <p:nvPr/>
        </p:nvPicPr>
        <p:blipFill>
          <a:blip r:embed="rId2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6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« parrainage » est suffisant comme formation à 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 nouvel embauché est titulaire d’un diplôme d’au moins Bac+2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obligatoire de le former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Espace réservé du contenu 11" descr="accrochetuteur.jpg"/>
          <p:cNvPicPr/>
          <p:nvPr/>
        </p:nvPicPr>
        <p:blipFill>
          <a:blip r:embed="rId2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répéti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opératrice tient fermement l’objet (poids inférieur à 1 kg) avec sa main droite, et ce, plusieurs dizaines de fois par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te opératrice risque un trouble musculo-squelett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Du fait du poids inférieur à 1 kg, l’opératrice ne risque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troubles musculo-squelettiques arrivent en premièr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troubles musculo-squelettiques arrivent en second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 après les surdité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Espace réservé du contenu 11" descr="TMS.jpg"/>
          <p:cNvPicPr/>
          <p:nvPr/>
        </p:nvPicPr>
        <p:blipFill>
          <a:blip r:embed="rId2"/>
          <a:stretch/>
        </p:blipFill>
        <p:spPr>
          <a:xfrm>
            <a:off x="214200" y="142920"/>
            <a:ext cx="466560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brise-béton pneumatique (marteau pique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uvrier ne risque rien, il porte des bott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uvrier risque les lésions des membres supéri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des brise-bétons équipés de dispositifs anti-b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xiste des brise-bétons équipés de dispositifs anti-vib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Espace réservé du contenu 11" descr="NuisPhysVibra.jpg"/>
          <p:cNvPicPr/>
          <p:nvPr/>
        </p:nvPicPr>
        <p:blipFill>
          <a:blip r:embed="rId2"/>
          <a:stretch/>
        </p:blipFill>
        <p:spPr>
          <a:xfrm>
            <a:off x="1143000" y="142920"/>
            <a:ext cx="264312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au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rotecteur jaune sert, entre autre, à limiter les 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devrait retirer le protecteur jaune afin de mieux voir la pièce qu’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’ouvrier doit obligatoirement porter une veste à manches lon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doit obligatoirement porter des lunettes d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Espace réservé du contenu 11" descr="Tou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érarchisation d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, comme sur la photo, les consignes de sécurité sont clairement visibles, el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sent à assurer la sécurité des opéra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consignes de sécurité viennent en complément de la formation à la sécurité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rotection collective est plus efficace que des 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protection collective est plus efficace que des équipements de protec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Espace réservé du contenu 11" descr="Avertissement.jpg"/>
          <p:cNvPicPr/>
          <p:nvPr/>
        </p:nvPicPr>
        <p:blipFill>
          <a:blip r:embed="rId2"/>
          <a:srcRect l="4371" t="0" r="0" b="0"/>
          <a:stretch/>
        </p:blipFill>
        <p:spPr>
          <a:xfrm>
            <a:off x="214200" y="142920"/>
            <a:ext cx="46926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 d’appels télépho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pas de risque particulier du fait qu’il s’agit d’un travail de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un stress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e part la nature de ce travail, l’employeur n’a pas l’obligation de réalis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s risques professio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niveau sonore ambiant peut provoquer des surdité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11" descr="CallCenter5.jpg"/>
          <p:cNvPicPr/>
          <p:nvPr/>
        </p:nvPicPr>
        <p:blipFill>
          <a:blip r:embed="rId2"/>
          <a:srcRect l="10884" t="0" r="0" b="0"/>
          <a:stretch/>
        </p:blipFill>
        <p:spPr>
          <a:xfrm>
            <a:off x="214200" y="142920"/>
            <a:ext cx="46800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outillage portatif générant de la poussière de b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bois étant un matériau naturel,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poussières de bois peuvent provoquer des maladies gr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ans certaines conditions, les poussières de bois sont explos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ort d’un masque anti-poussières suffirait à éviter tous risques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Image 15" descr="poussières bois.jpg"/>
          <p:cNvPicPr/>
          <p:nvPr/>
        </p:nvPicPr>
        <p:blipFill>
          <a:blip r:embed="rId2"/>
          <a:stretch/>
        </p:blipFill>
        <p:spPr>
          <a:xfrm>
            <a:off x="1357200" y="142920"/>
            <a:ext cx="2143080" cy="3535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pérateur relie le pot d’échappement à un système d’a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pérateur fait le plein en gaz GPL d’un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gaz d’échappement contiennent des produits toxiques ou noci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plaquettes de freins montées sur les véhicules neufs contiennent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mi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Espace réservé du contenu 11" descr="gaz echappement.jpg"/>
          <p:cNvPicPr/>
          <p:nvPr/>
        </p:nvPicPr>
        <p:blipFill>
          <a:blip r:embed="rId2"/>
          <a:srcRect l="0" t="3894" r="0" b="0"/>
          <a:stretch/>
        </p:blipFill>
        <p:spPr>
          <a:xfrm>
            <a:off x="214200" y="142920"/>
            <a:ext cx="4643640" cy="35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alimen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rice chargeant la palette est trop grande pour faire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alette devrait être placée plus haut pour limiter le risque de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machines utilisées dans l’industrie agro-alimentaire font l’objet d’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d’autocertification de la part du fabr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machines utilisées dans l’industrie agro-alimentaire doivent correspondre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normes de fabrication spé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Espace réservé du contenu 11" descr="3M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vêtements de travail  (pantalon et veste) est obligatoire sur les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ors de la construction d’un bâtiment il est demandé d’avoir des zon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produits utilisés dans les pressings peuvent provoquer des maladi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obligatoirement porter des gants pour travailler dans un 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repassage des vêtements peut provoquer des troubles musculo-squelet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temps de séchage des machines utilisées pour le nettoyage à sec peut êtr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lé par les opér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Espace réservé du contenu 11" descr="nettoyage a sec.jpg"/>
          <p:cNvPicPr/>
          <p:nvPr/>
        </p:nvPicPr>
        <p:blipFill>
          <a:blip r:embed="rId2"/>
          <a:srcRect l="14391" t="0" r="591" b="0"/>
          <a:stretch/>
        </p:blipFill>
        <p:spPr>
          <a:xfrm>
            <a:off x="214200" y="142920"/>
            <a:ext cx="4643640" cy="35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églementation impose une hiérarchisation dans l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quel ordre faut-il ranger ces dessins pour répondre à cette oblig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2 – 4 – 3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1 – 2 – 4 – 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1 – 2 – 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– 2 – 3 – 4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Espace réservé du contenu 14" descr="Montag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es chariots automoteurs à conducteur porté (CA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ourches du chariot devraient être positionnées à 15 centimètres du so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dant les dé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n’y a pas de recommandation spécifique quant à la hauteur des fo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Tous les opérateurs de l’entreprise peuvent conduire un engin de ce type si il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t titulaires d’un permis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ariste doit avoir suivi une formation de type Certificat d’Aptitude à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En Sécurité (C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Espace réservé du contenu 11" descr="CACP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salle de charge de chariots automoteurs électriques doit être équipée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 de venti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chariots automoteurs doivent être vérifiés 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Espace réservé du contenu 11" descr="Charge d'un CACP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space réservé du contenu 11" descr="Préparation de commande 1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ort de chaussures de sécurité peut être rendu obligatoire dans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allées de circulation pour chariots doivent obligatoirement être à sen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allées de circulation doivent être maintenues dégagées de tout 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ette équipe d’ouvrier réalise toujours le même travail. Ils n’ont pas besoin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voir une formation spécifique au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casque de chantier a une date limite d’uti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Espace réservé du contenu 11" descr="Chantier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est protégé contre les chut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utilisateurs d’échafaudages doivent avoir suivi une formation spécif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situé sur l’échafaudage aurait dû utiliser un escabeau pour réalis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space réservé du contenu 11" descr="Chantier second oeuvre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 REVERE</cp:lastModifiedBy>
  <dcterms:modified xsi:type="dcterms:W3CDTF">2011-02-03T10:51:33Z</dcterms:modified>
  <cp:revision>170</cp:revision>
  <dc:subject/>
  <dc:title>Olympiades</dc:title>
</cp:coreProperties>
</file>