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E8DE-6713-4ABB-B7A1-E1D858091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F0C0-ABB4-406F-93C4-DF1E39C9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B20B-D85D-4D80-BA7D-8BD7040B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9C7A-DF60-42B4-A87F-98A7AB25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731B-8E59-47E0-B4AA-B307F5FE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C4AE-93CA-41B8-94A3-07B5C734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B65B-C08F-4DB9-A6B2-93813C39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71A9-B442-4498-B9BD-31C47427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C8A2-1F30-4F79-95FB-9223CFCA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5CC5-514D-4BD9-BAD6-42D7FE6D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9929-EDE0-40A7-BC86-C0487837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8E5E-BE5A-4805-83BA-37300783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8D0D-B895-4937-9C17-D45C108BEEA6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880" y="2133720"/>
            <a:ext cx="842976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CONSIGNES :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ur chaque diapositive, il y 3 propositions de réponses. 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l peut y avoir plusieurs bonnes réponses par diapositive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Vous devez entourer la(les) bonne(s) réponse(s) sur la grille papier qui vous est fournie.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Remerciements à l’INRS pour la quasi totalité des photos illustrant ces diapositive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533520" y="380880"/>
            <a:ext cx="466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Olympia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Santé Sécurit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e 8" descr="Image1.jpg"/>
          <p:cNvPicPr/>
          <p:nvPr/>
        </p:nvPicPr>
        <p:blipFill>
          <a:blip r:embed="rId1"/>
          <a:stretch/>
        </p:blipFill>
        <p:spPr>
          <a:xfrm>
            <a:off x="6804000" y="549360"/>
            <a:ext cx="950760" cy="1090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4" name="Image 9" descr="Image3.jpg"/>
          <p:cNvPicPr/>
          <p:nvPr/>
        </p:nvPicPr>
        <p:blipFill>
          <a:blip r:embed="rId2"/>
          <a:stretch/>
        </p:blipFill>
        <p:spPr>
          <a:xfrm>
            <a:off x="7885080" y="549360"/>
            <a:ext cx="755640" cy="1079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5" name="Image 10" descr="carsat_nordpicardie.jpg"/>
          <p:cNvPicPr/>
          <p:nvPr/>
        </p:nvPicPr>
        <p:blipFill>
          <a:blip r:embed="rId3"/>
          <a:stretch/>
        </p:blipFill>
        <p:spPr>
          <a:xfrm>
            <a:off x="4932360" y="549360"/>
            <a:ext cx="1727280" cy="507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rculation dans un bure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sence de câbles électriques au s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existe un risque de chute de plain-p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a personne a l’habitude de la présence de ces câbles et ne risque donc r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 port de chaussures à talons hauts est interdit en entrep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Espace réservé du contenu 11" descr="Circulation bureau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llation électr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 dispositif permet de vérifier la présence de courant dans l’instal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dispositif empêche la mise sous tension accidentelle d’une partie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instal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installations électriques d’une entreprise doivent être vérifiées par un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sme agréé ou un technicien qualifi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Espace réservé du contenu 14" descr="Condamnation électrique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29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16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tier de bât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sence du maître d’ouvrage et du maître d’œuvre sur le chant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s personnes ne doivent pas porter de casque de chantier. Elles sont protégé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le filet de sécurité tendu au dessus d’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s personnes doivent porter un casque de chant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 casque rouge est réservé au maître d’ouvr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Espace réservé du contenu 11" descr="Chantier 2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3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quipements de protection individue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niveau sonore à risque est fixé réglementairement à 80 d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niveau sonore à risque est fixé réglementairement à 90 d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Si 2 machines générant chacune 80 dBA sont placées côte à côte. Le niveau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re sera de 160 d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Espace réservé du contenu 12" descr="EPI.jpg"/>
          <p:cNvPicPr/>
          <p:nvPr/>
        </p:nvPicPr>
        <p:blipFill>
          <a:blip r:embed="rId1"/>
          <a:srcRect l="0" t="0" r="7391" b="0"/>
          <a:stretch/>
        </p:blipFill>
        <p:spPr>
          <a:xfrm>
            <a:off x="214200" y="142920"/>
            <a:ext cx="464364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0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one de chargement et déchargement de camion dans une entrep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camion devrait être stationné dans la zone délimitée par le cadre blanc peint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 s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Réglementairement, le cadre peint au sol devrait être de couleur jau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entreprises accueillant des transporteurs doivent mettre en place d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es d’accueil de ces transporte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Espace réservé du contenu 11" descr="CACP 2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7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ten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chargement d’une palet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eur n’encourt pas de risque particulier du fait que les cartons pèsent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ins de 25 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pérateur risque un lumba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e bonne habitude évite tout ris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Espace réservé du contenu 11" descr="3M 1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05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4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de à domic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toyage d’une salle de b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est obligatoire d’utiliser de l’eau de javel pour nettoyer une salle de ba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aide à domicile travaille dans une position inconfor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C’est le client qui fournit les produits de nettoy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Espace réservé du contenu 11" descr="Aide a domicile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05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1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ie du bo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toyage des vêtements à l’aide d’une soufflette en fin de po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Si l’ouvrier ferme bien les yeux il n’y a pas de risque particul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uvrier risque un acci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poussières de bois qui se dégagent lors de cette opération sont dangereus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la san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Espace réservé du contenu 11" descr="Souflette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8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ite d’une nacelle élévatrice lors d’une intervention sur un lumin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a rue devrait être interdite à la circulation pendant ces travau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a présence d’un opérateur situé au sol est obligatoire lors de l’utilisation d’un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in de ce 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Il faut être titulaire d’un certificat de conduite à la sécurité pour manœuvrer un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elle de ce 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Espace réservé du contenu 11" descr="Nacelle élévatrice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49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5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inture par pulvéris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 d’une peinture avec solvant pétrol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oneTexte 9"/>
          <p:cNvSpPr/>
          <p:nvPr/>
        </p:nvSpPr>
        <p:spPr>
          <a:xfrm>
            <a:off x="214200" y="3857760"/>
            <a:ext cx="8715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peintre risque une maladie professionnelle de l’épaule si il réalis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gulièrement ce typ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peintre porte tous ses équipements de protection individuelle. Il ne risqu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e cabine de peinture par pulvérisation doit être munie d’une système effica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venti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Espace réservé du contenu 11" descr="Peinture pistolet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2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Espace réservé du contenu 3" descr="Image4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9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de à domic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 travail ne présente pas de risque particul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travail génère du str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(e) aide à domicile peut avoir plusieurs employe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canique génér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age sur un tour parallè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ions d’huile de cou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huile de coupe peut provoquer une maladie professionnelle de la pe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huile de coupe, étant diluée dans de l’eau, ne génère pas de ris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e pièce lisse en rotation peut entraîner les vêtements de l’opérate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Espace réservé du contenu 11" descr="Tour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7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d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opérateur est monté sur la structure pour réaliser la soud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soudeur risque une chu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soudeur risque de déformer la pièce sur laquelle il est mon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fumées émises lors du soudage présentent des risques pour la santé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 ’opérate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Espace réservé du contenu 11" descr="Soudage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14200" y="142920"/>
            <a:ext cx="4657680" cy="349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86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placement professionn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 d’un téléphone portable en conduis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usage d’un téléphone portable en conduisant n’est autorisé que pour l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ls professionn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usage d’un téléphone portable en conduisant est interd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 conducteur risque un retrait de 2 points sur son permis de condu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Espace réservé du contenu 11" descr="Conduite téléphone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93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e d’encaissement dans un hypermarch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pack de bouteilles d’eau pèse 9 k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n’y a pas de recommandation particulière concernant la manutention de 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 d’eau du fait qu’il pèse moins de 12,5 k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pack d’eau devrait être laissé dans le chariot pour passer en cai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Il existe un risque de trouble musculo-squelettique des membres supérieurs lor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l’exercice de cette prof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Espace réservé du contenu 11" descr="Caissière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00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oneTexte 6"/>
          <p:cNvSpPr/>
          <p:nvPr/>
        </p:nvSpPr>
        <p:spPr>
          <a:xfrm>
            <a:off x="5286240" y="1500120"/>
            <a:ext cx="3500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âtiment et Travaux Publ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ques relatives aux accidents de chute de hauteur avec arrê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plus grand nombre d’accidents de ce type est dû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Aux chutes lors de travaux sur toi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Aux chutes lors de l’utilisation d’un échafaud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Aux chutes lors de l’utilisation d’une échelle ou d’un escabe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Image 15" descr="Stats btp vide.jpg"/>
          <p:cNvPicPr/>
          <p:nvPr/>
        </p:nvPicPr>
        <p:blipFill>
          <a:blip r:embed="rId1"/>
          <a:stretch/>
        </p:blipFill>
        <p:spPr>
          <a:xfrm>
            <a:off x="214200" y="142920"/>
            <a:ext cx="464508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07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placement professionn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ite d’un véhicule utilitaire léger (moins de 3,5 tonn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faut être titulaire d’un permis poids-lourd pour conduire un véhicule de 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faut être titulaire d’un permis B pour conduire un véhicule de 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 dépassement de la charge utile de plus de 5 % peut entraîner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immobilisation du véhi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Espace réservé du contenu 11" descr="VUL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1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14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isation en entrep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 panneau signifie qu’il y a obligation de faire demi-to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panneau avertit de la présence d’un champ magnétique impor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 panneau triangulaire à fond jaune est un panneau d’avertiss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Espace réservé du contenu 11" descr="Champ magnétique.jpg"/>
          <p:cNvPicPr/>
          <p:nvPr/>
        </p:nvPicPr>
        <p:blipFill>
          <a:blip r:embed="rId1"/>
          <a:stretch/>
        </p:blipFill>
        <p:spPr>
          <a:xfrm>
            <a:off x="571680" y="142920"/>
            <a:ext cx="3805200" cy="3558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20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ZoneTexte 6"/>
          <p:cNvSpPr/>
          <p:nvPr/>
        </p:nvSpPr>
        <p:spPr>
          <a:xfrm>
            <a:off x="5286240" y="1500120"/>
            <a:ext cx="3500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uration rap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cette profession le plus grand nombre d’accidents avec arrêt est dû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Aux coup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Aux manutentions manu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Aux chutes de plain-pi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Espace réservé du contenu 11" descr="stat resto vide.jpg"/>
          <p:cNvPicPr/>
          <p:nvPr/>
        </p:nvPicPr>
        <p:blipFill>
          <a:blip r:embed="rId1"/>
          <a:srcRect l="10879" t="0" r="754" b="11116"/>
          <a:stretch/>
        </p:blipFill>
        <p:spPr>
          <a:xfrm>
            <a:off x="214200" y="142920"/>
            <a:ext cx="464364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27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canique automob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 d’un pont élévateur de voiture à deux colon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eur doit exercer un appui maintenu sur la commande tout le temps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desc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faut un second opérateur pour manœuvrer ce pont élévateur en toute sécur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 pont élévateur de voiture doit être vérifié tous les 2 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Espace réservé du contenu 11" descr="Garage 1.jpg"/>
          <p:cNvPicPr/>
          <p:nvPr/>
        </p:nvPicPr>
        <p:blipFill>
          <a:blip r:embed="rId1"/>
          <a:stretch/>
        </p:blipFill>
        <p:spPr>
          <a:xfrm>
            <a:off x="142920" y="142920"/>
            <a:ext cx="4735440" cy="3524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34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che de po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s fiches de postes doivent être stockées dans le bureau du chef d’atel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Une fiche de poste reprend les consignes de sécurité au post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a fiche de poste donnée à un nouvel opérateur suffit à assurer sa formation à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écur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Image 13" descr="fiche.jpg"/>
          <p:cNvPicPr/>
          <p:nvPr/>
        </p:nvPicPr>
        <p:blipFill>
          <a:blip r:embed="rId1"/>
          <a:stretch/>
        </p:blipFill>
        <p:spPr>
          <a:xfrm>
            <a:off x="142920" y="142920"/>
            <a:ext cx="483876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40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in de chant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Tous les ouvriers des Travaux Publics peuvent conduire ces eng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faut être titulaire d’un certificat de conduite à la sécurité (CACES) pour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ire un engin de ce 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Il faut être titulaire d’un permis poids lourds pour conduire un engin de ce ty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Espace réservé du contenu 11" descr="Image1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tiquetage des produits chim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t étiquetage signifie que le produit est inflamm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t étiquetage signifie que ce produit est un combur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Quand on prélève une quantité de ce produit dans un plus petit contenant, il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ut étiqueter ce nouveau conten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Espace réservé du contenu 11" descr="Chimie 1.jpg"/>
          <p:cNvPicPr/>
          <p:nvPr/>
        </p:nvPicPr>
        <p:blipFill>
          <a:blip r:embed="rId1"/>
          <a:stretch/>
        </p:blipFill>
        <p:spPr>
          <a:xfrm>
            <a:off x="785880" y="142920"/>
            <a:ext cx="350028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46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ion à la sécurité des nouveaux embauch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y a obligation de formation à la sécurité au poste de travail pour les nouveaux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auch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Si le nouvel embauché est titulaire d’un diplôme de l’enseignement technique,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n’y a pas d’obligation de formation à la sécurité au post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 « parrainage » est suffisant comme formation à la sécur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Espace réservé du contenu 11" descr="accrochetuteur.jpg"/>
          <p:cNvPicPr/>
          <p:nvPr/>
        </p:nvPicPr>
        <p:blipFill>
          <a:blip r:embed="rId1"/>
          <a:stretch/>
        </p:blipFill>
        <p:spPr>
          <a:xfrm>
            <a:off x="1000080" y="142920"/>
            <a:ext cx="3000600" cy="35211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52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ZoneTexte 6"/>
          <p:cNvSpPr/>
          <p:nvPr/>
        </p:nvSpPr>
        <p:spPr>
          <a:xfrm>
            <a:off x="5286240" y="1500120"/>
            <a:ext cx="3500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ail répétiti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tte opératrice tient fermement l’objet (poids inférieur à 1 kg) avec sa main droite, et ce, plusieurs dizaines de fois par jo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tte opératrice risque un trouble musculo-squelettiqu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Du fait du poids inférieur à 1 kg, l’opératrice ne risque ri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troubles musculo-squelettiques arrivent en première position en nombre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clarations de maladies professionn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Espace réservé du contenu 11" descr="TMS.jpg"/>
          <p:cNvPicPr/>
          <p:nvPr/>
        </p:nvPicPr>
        <p:blipFill>
          <a:blip r:embed="rId1"/>
          <a:stretch/>
        </p:blipFill>
        <p:spPr>
          <a:xfrm>
            <a:off x="214200" y="142920"/>
            <a:ext cx="4665600" cy="3529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5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aux publ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 d’un brise-béton pneumatique (marteau piqueu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t ouvrier ne risque rien, il porte des bottes de sécur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t ouvrier risque les lésions des membres supérie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Il existe des brise-bétons équipés de dispositifs anti-bru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Espace réservé du contenu 11" descr="NuisPhysVibra.jpg"/>
          <p:cNvPicPr/>
          <p:nvPr/>
        </p:nvPicPr>
        <p:blipFill>
          <a:blip r:embed="rId1"/>
          <a:stretch/>
        </p:blipFill>
        <p:spPr>
          <a:xfrm>
            <a:off x="1143000" y="142920"/>
            <a:ext cx="2643120" cy="3541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65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canique généra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age au tour parallè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protecteur jaune sert, entre autre, à limiter les projections d’huile de cou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uvrier devrait retirer le protecteur jaune afin de mieux voir la pièce qu’il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’ouvrier doit obligatoirement porter une veste à manches long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Espace réservé du contenu 11" descr="Tour 2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72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gnes de sécur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érarchisation des mesures de préven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Si, comme sur la photo, les consignes de sécurité sont clairement visibles, ell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ffisent à assurer la sécurité des opérate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s consignes de sécurité viennent en complément de la formation à la sécurité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 poste de 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e protection collective est plus efficace que des consignes de sécur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Espace réservé du contenu 11" descr="Avertissement.jpg"/>
          <p:cNvPicPr/>
          <p:nvPr/>
        </p:nvPicPr>
        <p:blipFill>
          <a:blip r:embed="rId1"/>
          <a:srcRect l="4371" t="0" r="0" b="0"/>
          <a:stretch/>
        </p:blipFill>
        <p:spPr>
          <a:xfrm>
            <a:off x="214200" y="142920"/>
            <a:ext cx="469260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7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res d’appels téléphon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Il n’y pas de risque particulier du fait qu’il s’agit d’un travail de burea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 travail génère un stress impor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De part la nature de ce travail, l’employeur n’a pas l’obligation de réaliser un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valuation des risques professionn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Espace réservé du contenu 11" descr="CallCenter5.jpg"/>
          <p:cNvPicPr/>
          <p:nvPr/>
        </p:nvPicPr>
        <p:blipFill>
          <a:blip r:embed="rId1"/>
          <a:srcRect l="10884" t="0" r="0" b="0"/>
          <a:stretch/>
        </p:blipFill>
        <p:spPr>
          <a:xfrm>
            <a:off x="214200" y="142920"/>
            <a:ext cx="468000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86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ZoneTexte 6"/>
          <p:cNvSpPr/>
          <p:nvPr/>
        </p:nvSpPr>
        <p:spPr>
          <a:xfrm>
            <a:off x="5286240" y="1500120"/>
            <a:ext cx="3500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ie du bo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 d’un outillage portatif générant de la poussière de bo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 bois étant un matériau naturel, il n’y a pas de risque particul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s poussières de bois peuvent provoquer des maladies gra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Dans certaines conditions, les poussières de bois sont explos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Image 15" descr="poussières bois.jpg"/>
          <p:cNvPicPr/>
          <p:nvPr/>
        </p:nvPicPr>
        <p:blipFill>
          <a:blip r:embed="rId1"/>
          <a:stretch/>
        </p:blipFill>
        <p:spPr>
          <a:xfrm>
            <a:off x="1357200" y="142920"/>
            <a:ext cx="2143080" cy="3535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92" name="Text Box 8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ZoneTexte 6"/>
          <p:cNvSpPr/>
          <p:nvPr/>
        </p:nvSpPr>
        <p:spPr>
          <a:xfrm>
            <a:off x="5286240" y="15001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écanique automo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Cet opérateur relie le pot d’échappement à un système d’a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Cet opérateur fait le plein en gaz GPL d’un véhic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gaz d’échappement contiennent des produits toxiques ou nocif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Espace réservé du contenu 11" descr="gaz echappement.jpg"/>
          <p:cNvPicPr/>
          <p:nvPr/>
        </p:nvPicPr>
        <p:blipFill>
          <a:blip r:embed="rId1"/>
          <a:srcRect l="0" t="3894" r="0" b="0"/>
          <a:stretch/>
        </p:blipFill>
        <p:spPr>
          <a:xfrm>
            <a:off x="214200" y="142920"/>
            <a:ext cx="4643640" cy="3527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99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ie aliment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tentions manu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h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rice chargeant la palette est trop grande pour faire cette activ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a palette devrait être placée plus haut pour limiter le risque de lumba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machines utilisées dans l’industrie agro-alimentaire font l’objet d’un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édure d’autocertification de la part du fabric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Espace réservé du contenu 11" descr="3M 2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06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tier de bâti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œuv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uvrier doit porter un casque de chant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uvrier ne risque rien tant qu’il reste à l’extérieur du bât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 port de vêtements de travail  (pantalon et veste) est obligatoire sur les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ti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Espace réservé du contenu 11" descr="Chantier second oeuvre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05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6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s produits utilisés dans les pressings peuvent provoquer des maladie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sionnel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faut obligatoirement porter des gants pour travailler dans un press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 repassage des vêtements peut provoquer des troubles musculo-squelett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Espace réservé du contenu 11" descr="nettoyage a sec.jpg"/>
          <p:cNvPicPr/>
          <p:nvPr/>
        </p:nvPicPr>
        <p:blipFill>
          <a:blip r:embed="rId1"/>
          <a:srcRect l="14391" t="0" r="591" b="0"/>
          <a:stretch/>
        </p:blipFill>
        <p:spPr>
          <a:xfrm>
            <a:off x="214200" y="142920"/>
            <a:ext cx="4643640" cy="3503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13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ZoneTexte 6"/>
          <p:cNvSpPr/>
          <p:nvPr/>
        </p:nvSpPr>
        <p:spPr>
          <a:xfrm>
            <a:off x="5286240" y="1500120"/>
            <a:ext cx="3500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églementation impose une hiérarchisation dans les mesures de préven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quel ordre faut-il ranger ces dessins pour répondre à cette obligation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ZoneTexte 9"/>
          <p:cNvSpPr/>
          <p:nvPr/>
        </p:nvSpPr>
        <p:spPr>
          <a:xfrm>
            <a:off x="214200" y="3857760"/>
            <a:ext cx="871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2 – 4 – 3 –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1 – 2 – 4 – 3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1 – 2 – 3 –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Espace réservé du contenu 14" descr="Montage.jpg"/>
          <p:cNvPicPr/>
          <p:nvPr/>
        </p:nvPicPr>
        <p:blipFill>
          <a:blip r:embed="rId1"/>
          <a:stretch/>
        </p:blipFill>
        <p:spPr>
          <a:xfrm>
            <a:off x="214200" y="142920"/>
            <a:ext cx="4643640" cy="3500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20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28760" y="2142720"/>
            <a:ext cx="82864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subsidiaire 1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2009, selon les chiffres de la Sécurité Sociale, combien y a-t-il eu de maladies professionnelles mortelles ?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Question subsidiaire 2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2009, selon les chiffres de la Sécurité Sociale, combien y a-t-il eu d’accidents mortels dans les activités du bâtiment ?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533520" y="380880"/>
            <a:ext cx="466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Olympia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Santé Sécurit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6"/>
          <p:cNvSpPr/>
          <p:nvPr/>
        </p:nvSpPr>
        <p:spPr>
          <a:xfrm>
            <a:off x="5286240" y="1500120"/>
            <a:ext cx="350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ite des chariots automoteurs à conducteur porté (CAC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es fourches du chariot devraient être positionnées à 15 centimètres du sol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dant les déplac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n’y a pas de recommandation spécifique quant à la hauteur des four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Tous les opérateurs de l’entreprise peuvent conduire un engin de ce type si il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t titulaires d’un permis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Espace réservé du contenu 11" descr="CACP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73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e en charge d’un chariot automoteur électr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eur doit être titulaire d’une habilitation électrique pour réaliser c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Il y a un risque d’explosion lors de cette opé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Une salle de charge de chariots automoteurs électriques doit être équipée d’un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ème de venti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Espace réservé du contenu 11" descr="Charge d'un CACP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14200" y="142920"/>
            <a:ext cx="4657680" cy="349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0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Espace réservé du contenu 11" descr="Préparation de commande 1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83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paration de commande dans un entrepô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oneTexte 9"/>
          <p:cNvSpPr/>
          <p:nvPr/>
        </p:nvSpPr>
        <p:spPr>
          <a:xfrm>
            <a:off x="214200" y="3857760"/>
            <a:ext cx="8715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pérateur risque de souffrir d’un trouble musculo-squelettique (TMS) si il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vaille fréquemment dans cette posi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e port de chaussures de sécurité peut être rendu obligatoire dans un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p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allées de circulation pour chariots doivent obligatoirement être à sens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Connecteur droit avec flèche 14"/>
          <p:cNvCxnSpPr/>
          <p:nvPr/>
        </p:nvCxnSpPr>
        <p:spPr>
          <a:xfrm flipH="1" flipV="1">
            <a:off x="2642400" y="2214360"/>
            <a:ext cx="715320" cy="429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8" name="Text Box 10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tier de bât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s œuv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9"/>
          <p:cNvSpPr/>
          <p:nvPr/>
        </p:nvSpPr>
        <p:spPr>
          <a:xfrm>
            <a:off x="214200" y="3857760"/>
            <a:ext cx="8715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uvrier situé sur l’escabeau risque une chute de hauteu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a réglementation interdit de travailler en sh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Cette équipe d’ouvriers réalise toujours le même travail. Ils n’ont pas besoin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voir une formation spécifique au chant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Espace réservé du contenu 11" descr="Chantier 1.jpg"/>
          <p:cNvPicPr/>
          <p:nvPr/>
        </p:nvPicPr>
        <p:blipFill>
          <a:blip r:embed="rId2"/>
          <a:stretch/>
        </p:blipFill>
        <p:spPr>
          <a:xfrm>
            <a:off x="214200" y="142920"/>
            <a:ext cx="4657680" cy="3517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95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3"/>
          <p:cNvSpPr/>
          <p:nvPr/>
        </p:nvSpPr>
        <p:spPr>
          <a:xfrm>
            <a:off x="214200" y="142920"/>
            <a:ext cx="4643640" cy="35002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5143680" y="1143000"/>
            <a:ext cx="3714480" cy="2500200"/>
          </a:xfrm>
          <a:prstGeom prst="rect">
            <a:avLst/>
          </a:prstGeom>
          <a:solidFill>
            <a:srgbClr val="fcfeb8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ZoneTexte 6"/>
          <p:cNvSpPr/>
          <p:nvPr/>
        </p:nvSpPr>
        <p:spPr>
          <a:xfrm>
            <a:off x="5286240" y="150012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ention d’une entreprise extérie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oneTexte 8"/>
          <p:cNvSpPr/>
          <p:nvPr/>
        </p:nvSpPr>
        <p:spPr>
          <a:xfrm>
            <a:off x="7715160" y="0"/>
            <a:ext cx="114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ZoneTexte 9"/>
          <p:cNvSpPr/>
          <p:nvPr/>
        </p:nvSpPr>
        <p:spPr>
          <a:xfrm>
            <a:off x="214200" y="3857760"/>
            <a:ext cx="871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– L’ouvrier travaillant sur l’échafaudage vert est protégé contre les chutes d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te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– L’ouvrier sur l’échafaudage devrait s’accrocher au garde corps pour avoir un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illeure stabil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Les utilisateurs d’échafaudages doivent avoir suivi une formation spécif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Espace réservé du contenu 11" descr="Chantier second oeuvre 2.jpg"/>
          <p:cNvPicPr/>
          <p:nvPr/>
        </p:nvPicPr>
        <p:blipFill>
          <a:blip r:embed="rId1"/>
          <a:stretch/>
        </p:blipFill>
        <p:spPr>
          <a:xfrm>
            <a:off x="214200" y="142920"/>
            <a:ext cx="4657680" cy="3505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2" name="Text Box 9"/>
          <p:cNvSpPr/>
          <p:nvPr/>
        </p:nvSpPr>
        <p:spPr>
          <a:xfrm>
            <a:off x="6097320" y="114300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4:48:17Z</dcterms:created>
  <dc:creator>Claude</dc:creator>
  <dc:description/>
  <dc:language>en-US</dc:language>
  <cp:lastModifiedBy>Claude REVERE</cp:lastModifiedBy>
  <dcterms:modified xsi:type="dcterms:W3CDTF">2011-02-03T10:47:17Z</dcterms:modified>
  <cp:revision>171</cp:revision>
  <dc:subject/>
  <dc:title>Olympiades</dc:title>
</cp:coreProperties>
</file>